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B6D8B-E0AB-40AF-8EFE-307113010A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DA547-5983-475F-8C46-357FB9561D0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35062-6F18-4953-B257-BE701772C85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0335B0B-DE77-4E6A-847E-AC8D747BCBF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14ED066-7F61-40B9-9936-E6282BD86B4D}" type="datetime">
              <a:rPr b="0" lang="fr-FR" sz="1200" spc="-1" strike="noStrike">
                <a:solidFill>
                  <a:srgbClr val="000000"/>
                </a:solidFill>
                <a:latin typeface="Times New Roman"/>
                <a:ea typeface="Arial"/>
              </a:rPr>
              <a:t>30/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74DC2-8E49-470A-B4D7-CADFEAE7572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A98F3-E1C6-40B9-9B25-CCEBA68ADE8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394E70-2C6D-42FE-B7D5-60576589A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C4756-9C46-4208-A466-826E32BF2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1DA528-8762-4824-AAE6-E5BD6AD41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49BAFC-191B-4712-995C-71B6CE847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F2069-23C9-4CD3-A80A-5CAA3621C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D242D-2AF0-4F1F-810F-9E861648E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E3CC1-38A9-4A9B-825E-446767087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8977C-3141-4017-8FBD-D7B26DAED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BB136-B50B-4771-89AF-02523D5BE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B0751-1281-470F-9CAE-D88D9D18A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906A6-79B1-40F2-8CB9-8C5E661A6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14C0A-64B1-40FB-ADF1-4FE6BDF15B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44180-7A6D-4C94-8EBA-DCB59FEECC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D9CB779-E0EC-4665-8593-563CAA14B2B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0129F-7D2E-4045-A2B0-97C566F153CF}"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3DFBC-A930-4672-9D75-A219F9ED6DF1}"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